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EF97-4B82-4B2D-83AA-7D349819710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0EE8-85E5-41EA-B504-28E89F59BCF8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7B80-85DC-41AF-A57A-5729CDA4D8B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1E4A-D4E9-4519-AD6A-1C77D11FF7F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C6C9-08D1-4CF9-A0F8-EFE62312846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DF9A-38E9-4E2D-809D-D7F285D5942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668A-F993-4015-A846-CCDB8BDF4D1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2072-07C2-4B32-91ED-84FA76B8762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A7B5-856E-4701-A665-D37DB57B6C1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6F3-4BBC-45DA-B091-969F0C36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828-2D46-44BA-B37E-7B995FF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04D7E-0EE8-472E-9D8B-73FA0668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E5E81-527A-45E2-A781-E67D103F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C0174-4CDC-4B08-AF23-708B6FF9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21472-5A8F-41E9-889F-91953D32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70699-58AA-46C9-A284-1DE26A84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DC316-FFA0-4116-8F65-2BFBCC2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6A4B2-8A69-435C-9BE7-4BC9F9AF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A33B1-12E8-4532-ABD3-982AA819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48BA9-F7C7-4125-89DA-02E0239F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A4C-0C52-410E-8F74-CE6F0B2A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6EE-CA28-4A76-A507-091CCDAE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1707-1D4B-4F68-A4DF-01E68D6D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A49E-FABE-4AAB-85BE-B04E0648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7F01-5880-4C2B-830B-98FCD900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2927-5DB8-42CF-8FBC-3D4D8ED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563C-5A70-4210-ADE6-962EB51A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EBEE-7661-43FA-BD16-EFD644C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D5A6-0DFD-4549-950D-E5F933F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BCE-8630-473A-B827-DDB05431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5A27-7633-47A7-BD4E-95CEE0A9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59BC-2DF6-4E0D-873C-37284EC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C3AC-1632-4E74-A3A4-75BAAA62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F075-E96A-4567-9E0A-B24A9190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B05D-DD50-41D9-8D89-7436981A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B8A0-17B1-4F95-8AEB-FFC5647A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A8F9-9AFF-4030-988D-6B655D5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3C0A1-354D-448E-A6CC-4736DF79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2894-1117-43C1-BCC3-E0CC9E09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A56D-2424-42D9-BD8B-2DC93E0E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202-96FA-4C01-93CA-F63406B7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475D-AD77-4568-B3C9-1F064206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465A-3065-42D3-8D6A-5D540FE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40E2-812D-4DD3-BF19-D277D1BD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910C-9906-487A-9E87-2734C041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41A1-BF04-4A28-BAFB-FEA9DB5C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D64B-C771-4D16-8616-15FA597C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2348-D4D4-4178-8C91-17025529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ED8B-1C84-4659-B937-C8B3DF33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4EC9-5D0B-4D5A-B40F-337B1730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195F-22B4-4B94-8B62-88DC7ECC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C7F-61F5-41DC-A426-5300EEA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3A9D-381E-4BCD-9853-ECE0536B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08C0-1F70-47E9-B814-173BF628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A6673-D6C4-4DEA-A97F-C85E1E0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0C57-D4A8-4009-B709-5BE3427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251D-CF5E-4A31-A695-D1B31CC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C583-68E6-423A-AEF8-769B406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02202-8959-4C79-8D17-D4417782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DBB0-F53C-4A4E-96D5-EB3B4652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642D-2665-4262-9A2E-81F07227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530F4-A62C-4A6F-9A5B-093DB2D5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AB1-A0B8-4B3D-83BB-A7EEC33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7A0C-84B1-461F-A282-2E791F10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EFAD3-7022-42F1-9823-0B4F47B9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A4591-1B6F-4A14-8E2C-331383AF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EF4FF-497C-4A54-9C5E-CB659E65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5E4C0-E736-4426-9768-CCCF1404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44457-F13D-46F9-8126-CE2293EB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765B-3D57-4A2B-A57F-84922D5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3AF4-F0AE-453F-A2B4-C9D37ED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89D2-A039-4504-B548-9F483E8F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A3B18-AF0A-4F5A-AFBA-129B06D0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929-B6AA-40F4-A8B6-87973FC8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94604-9066-4151-BF1E-56828B84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CD465-F8EC-435D-A45D-566E6139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63B12-78DF-4624-AC5E-6B54F07C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A145-9D53-4CDA-861C-3ED23EC7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971A3-9742-4780-ABB4-EC53B608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56120-8693-4C95-B9BC-FBF12561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13DE4-62DE-4DEC-AAC6-03C2FF02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20718-D267-479E-A528-D6CB39E3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C74F7-5EE3-4A7F-950D-9D0C0547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738A2-D759-4E3F-A963-D74A6486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E3F-9D27-4409-8EAB-DE16159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C6A28-8B51-4BD3-98D9-FBE9A017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4B05-DCFF-4F4B-8DC8-8AC1D75C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5EAF4-4F9F-426A-AED8-61BB1305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0A86E-2AAE-4487-B944-FFABF923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5ACC-9F8E-4C12-BA8A-CB961A67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63EF-CCC6-4463-913B-DDCEADDF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E3631-9274-4713-AB1F-98DC07A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6AD7-20EF-41B0-B9FC-C51C58AB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0C696-27CA-40F5-BC91-E946D2CF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AEDD8-D912-45D4-9564-429C44C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ED7-BC44-4B63-8489-A0A5D6F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85FBB-D06E-4FD8-B03A-A8212689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2250B-A9B2-400F-A6C4-6BAFF21A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BFBDD-47DA-47C4-8729-846458AC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5F000-6DA4-493F-8D2F-12B950A8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375E-9355-4C5F-B8B1-0FDBFB88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C8DF8-8ACE-49D1-803A-4F54B031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1787F-C7C0-42AA-9D85-0EF5BFDD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7528D-16C1-43F7-B7B5-92DBE8E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4CF4B-BF1A-4A0D-A59A-593C7B14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DDFFC-D256-4D80-9CF2-7FF0995A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2D8-D46D-4609-A471-2455C5A8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29ECA-2911-4191-9345-2F2F9F71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DE744-4699-4781-A587-6DFDB81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75705-4549-4FA3-B7B2-B32A0C5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A7BB8-7E57-4156-983B-C003F722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2DD08-8E03-4D63-B0DB-10F66CE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3BE13-7071-41B5-8DD7-1AB576A0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613D2-2383-4E74-9326-4C47107F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70D28-45D9-46DE-AAD5-8D8FD208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3BDFB-9B98-4EE1-92F4-4F0F0B5E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29037-3702-43F3-919E-BE677A60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uora yhdysviiv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uora yhdysviiv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972A-3331-4A1A-B53C-2C8F7ED966EC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Suora yhdysviiv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uora yhdysviiv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uora yhdysviiv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uora yhdysviiv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uora yhdysviiv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uora yhdysviiv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31FC-5B5C-4031-83AC-67BC4F152F5E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uora yhdysviiv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uora yhdysviiv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uora yhdysviiv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uora yhdysviiv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uora yhdysviiv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uora yhdysviiv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75A1-A9D0-497C-B753-CDBCB5339695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uora yhdysviiv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uora yhdysviiv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E2C8-8AC8-4D80-ADEA-6997CAEF43F6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uora yhdysviiv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uora yhdysviiv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855C-DF9D-4DC6-9778-C297C1379800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401-7BC4-4B1F-9410-DC5BB6A0D23F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uora yhdysviiv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uora yhdysviiv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5D1C-86DA-4310-87D5-754653792EB3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0A71-4A40-48EF-A3D0-BDCC95ECB6AE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9AAF-8F8B-4C64-8E16-05225E257FF9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Otsikko 1" descr=""/>
          <p:cNvPicPr/>
          <p:nvPr/>
        </p:nvPicPr>
        <p:blipFill>
          <a:blip r:embed="rId1"/>
          <a:stretch/>
        </p:blipFill>
        <p:spPr>
          <a:xfrm>
            <a:off x="725400" y="476280"/>
            <a:ext cx="7980480" cy="2077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1928880" y="2357280"/>
            <a:ext cx="516708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Otsikk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Tekstikehys 3"/>
          <p:cNvSpPr/>
          <p:nvPr/>
        </p:nvSpPr>
        <p:spPr>
          <a:xfrm>
            <a:off x="536040" y="1857240"/>
            <a:ext cx="799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gneettisuus keskittyy  magneetin päi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ita sanotaan navoi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gneetilla on kaksi napaa, pohjoisnapa ja etelän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amannimiset navat hylkivät toisi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rinimiset navat vetävät toisiaan puole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gneettisia aineita ovat rauta, koboltti ja nikk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2643120" y="4929120"/>
            <a:ext cx="3214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3300480" cy="2682720"/>
          </a:xfrm>
          <a:prstGeom prst="rect">
            <a:avLst/>
          </a:prstGeom>
          <a:ln w="0">
            <a:noFill/>
          </a:ln>
        </p:spPr>
      </p:pic>
      <p:sp>
        <p:nvSpPr>
          <p:cNvPr id="412" name="Tekstikehys 2"/>
          <p:cNvSpPr/>
          <p:nvPr/>
        </p:nvSpPr>
        <p:spPr>
          <a:xfrm>
            <a:off x="1098360" y="1143000"/>
            <a:ext cx="692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uetta, jossa magneettinen vuorovaikutus vaikutta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notaan magneettikentäk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gneettikenttää kuvataan kenttäviivoi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enttäviivat kulkevat pohjoisnavasta etelänap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kstikehys 2"/>
          <p:cNvSpPr/>
          <p:nvPr/>
        </p:nvSpPr>
        <p:spPr>
          <a:xfrm>
            <a:off x="3135960" y="35712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nttäviivakok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Kuva 4" descr="magneetin kenttäviivat,samat navat.png"/>
          <p:cNvPicPr/>
          <p:nvPr/>
        </p:nvPicPr>
        <p:blipFill>
          <a:blip r:embed="rId1"/>
          <a:stretch/>
        </p:blipFill>
        <p:spPr>
          <a:xfrm>
            <a:off x="5000760" y="1500120"/>
            <a:ext cx="2857320" cy="1825560"/>
          </a:xfrm>
          <a:prstGeom prst="rect">
            <a:avLst/>
          </a:prstGeom>
          <a:ln w="0">
            <a:noFill/>
          </a:ln>
        </p:spPr>
      </p:pic>
      <p:pic>
        <p:nvPicPr>
          <p:cNvPr id="415" name="Kuva 5" descr="magneetin kenttäviivat.png"/>
          <p:cNvPicPr/>
          <p:nvPr/>
        </p:nvPicPr>
        <p:blipFill>
          <a:blip r:embed="rId2"/>
          <a:stretch/>
        </p:blipFill>
        <p:spPr>
          <a:xfrm>
            <a:off x="571680" y="1428840"/>
            <a:ext cx="3071520" cy="2062080"/>
          </a:xfrm>
          <a:prstGeom prst="rect">
            <a:avLst/>
          </a:prstGeom>
          <a:ln w="0">
            <a:noFill/>
          </a:ln>
        </p:spPr>
      </p:pic>
      <p:sp>
        <p:nvSpPr>
          <p:cNvPr id="416" name="Tekstikehys 6"/>
          <p:cNvSpPr/>
          <p:nvPr/>
        </p:nvSpPr>
        <p:spPr>
          <a:xfrm>
            <a:off x="5217840" y="378612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mannimiset navat vastakk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kstikehys 8"/>
          <p:cNvSpPr/>
          <p:nvPr/>
        </p:nvSpPr>
        <p:spPr>
          <a:xfrm>
            <a:off x="571680" y="392904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rinimiset navat vastakk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kstikehys 1"/>
          <p:cNvSpPr/>
          <p:nvPr/>
        </p:nvSpPr>
        <p:spPr>
          <a:xfrm>
            <a:off x="3082320" y="107172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autanaulan magnet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kstikehys 3"/>
          <p:cNvSpPr/>
          <p:nvPr/>
        </p:nvSpPr>
        <p:spPr>
          <a:xfrm>
            <a:off x="2019240" y="2214720"/>
            <a:ext cx="62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autanaula voidaan magnetoida sivelemällä si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estomagneetilla  samansuuntaisin ved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kstikehys 5"/>
          <p:cNvSpPr/>
          <p:nvPr/>
        </p:nvSpPr>
        <p:spPr>
          <a:xfrm>
            <a:off x="1659600" y="5357880"/>
            <a:ext cx="53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gneettisuus voidaan poistaa takom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ai kuumentam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3286080"/>
            <a:ext cx="2071800" cy="1295280"/>
          </a:xfrm>
          <a:prstGeom prst="rect">
            <a:avLst/>
          </a:prstGeom>
          <a:ln w="0">
            <a:noFill/>
          </a:ln>
        </p:spPr>
      </p:pic>
      <p:sp>
        <p:nvSpPr>
          <p:cNvPr id="422" name="Tekstikehys 7"/>
          <p:cNvSpPr/>
          <p:nvPr/>
        </p:nvSpPr>
        <p:spPr>
          <a:xfrm>
            <a:off x="3079440" y="3357720"/>
            <a:ext cx="56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ällöin raudan pienoismagneetit järjestyvät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3643200" y="3929040"/>
            <a:ext cx="4500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Otsikk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Tekstikehys 2"/>
          <p:cNvSpPr/>
          <p:nvPr/>
        </p:nvSpPr>
        <p:spPr>
          <a:xfrm>
            <a:off x="2045160" y="142884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n kompassineulan päälle asetetaan sähköjohdi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 johtimeen kytketään sähkövirta, kompassine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ilahtaa. Sähkövirta aiheuttaa magneettikentä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kstikehys 3"/>
          <p:cNvSpPr/>
          <p:nvPr/>
        </p:nvSpPr>
        <p:spPr>
          <a:xfrm>
            <a:off x="1643040" y="2643120"/>
            <a:ext cx="710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a sähkömagneet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vit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ä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utasydä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hti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avirtaläh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Kuva 4" descr="magneetti sähkö.jpg"/>
          <p:cNvPicPr/>
          <p:nvPr/>
        </p:nvPicPr>
        <p:blipFill>
          <a:blip r:embed="rId2"/>
          <a:stretch/>
        </p:blipFill>
        <p:spPr>
          <a:xfrm>
            <a:off x="0" y="1214280"/>
            <a:ext cx="1571760" cy="5072400"/>
          </a:xfrm>
          <a:prstGeom prst="rect">
            <a:avLst/>
          </a:prstGeom>
          <a:ln w="0">
            <a:noFill/>
          </a:ln>
        </p:spPr>
      </p:pic>
      <p:pic>
        <p:nvPicPr>
          <p:cNvPr id="428" name="Kuva 5" descr="käämi.gif"/>
          <p:cNvPicPr/>
          <p:nvPr/>
        </p:nvPicPr>
        <p:blipFill>
          <a:blip r:embed="rId3"/>
          <a:srcRect l="23780" t="24391" r="41468" b="21955"/>
          <a:stretch/>
        </p:blipFill>
        <p:spPr>
          <a:xfrm>
            <a:off x="6143760" y="3071880"/>
            <a:ext cx="1110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Kuva 1" descr="sähkömagneetti2.gif"/>
          <p:cNvPicPr/>
          <p:nvPr/>
        </p:nvPicPr>
        <p:blipFill>
          <a:blip r:embed="rId1"/>
          <a:stretch/>
        </p:blipFill>
        <p:spPr>
          <a:xfrm>
            <a:off x="5619600" y="214200"/>
            <a:ext cx="2381400" cy="1785960"/>
          </a:xfrm>
          <a:prstGeom prst="rect">
            <a:avLst/>
          </a:prstGeom>
          <a:ln w="0">
            <a:noFill/>
          </a:ln>
        </p:spPr>
      </p:pic>
      <p:sp>
        <p:nvSpPr>
          <p:cNvPr id="430" name="Tekstikehys 3"/>
          <p:cNvSpPr/>
          <p:nvPr/>
        </p:nvSpPr>
        <p:spPr>
          <a:xfrm>
            <a:off x="871920" y="857160"/>
            <a:ext cx="446364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seta rautasydän käämin sisäl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keile vaikuttaako rautasydä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ikkunauloihi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kstikehys 4"/>
          <p:cNvSpPr/>
          <p:nvPr/>
        </p:nvSpPr>
        <p:spPr>
          <a:xfrm>
            <a:off x="871560" y="3143160"/>
            <a:ext cx="418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. Kytke käämiin tasavi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keile vaikuttaako rautasydän ny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ikkunauloi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kstikehys 5"/>
          <p:cNvSpPr/>
          <p:nvPr/>
        </p:nvSpPr>
        <p:spPr>
          <a:xfrm>
            <a:off x="589320" y="4500720"/>
            <a:ext cx="52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kenna kuvan mukainen sähkömagne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Kuva 6" descr="sähkömagneetti,ies.gif"/>
          <p:cNvPicPr/>
          <p:nvPr/>
        </p:nvPicPr>
        <p:blipFill>
          <a:blip r:embed="rId2"/>
          <a:srcRect l="11931" t="6820" r="19887" b="18184"/>
          <a:stretch/>
        </p:blipFill>
        <p:spPr>
          <a:xfrm>
            <a:off x="5786280" y="4500720"/>
            <a:ext cx="2500560" cy="2062080"/>
          </a:xfrm>
          <a:prstGeom prst="rect">
            <a:avLst/>
          </a:prstGeom>
          <a:ln w="0">
            <a:noFill/>
          </a:ln>
        </p:spPr>
      </p:pic>
      <p:pic>
        <p:nvPicPr>
          <p:cNvPr id="434" name="Kuva 7" descr="sähkömagneetti1.gif"/>
          <p:cNvPicPr/>
          <p:nvPr/>
        </p:nvPicPr>
        <p:blipFill>
          <a:blip r:embed="rId3"/>
          <a:stretch/>
        </p:blipFill>
        <p:spPr>
          <a:xfrm>
            <a:off x="5786280" y="2286000"/>
            <a:ext cx="2357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Kuva 1" descr="magneetti sähkö.jpg"/>
          <p:cNvPicPr/>
          <p:nvPr/>
        </p:nvPicPr>
        <p:blipFill>
          <a:blip r:embed="rId1"/>
          <a:stretch/>
        </p:blipFill>
        <p:spPr>
          <a:xfrm>
            <a:off x="0" y="785880"/>
            <a:ext cx="1571760" cy="5072040"/>
          </a:xfrm>
          <a:prstGeom prst="rect">
            <a:avLst/>
          </a:prstGeom>
          <a:ln w="0">
            <a:noFill/>
          </a:ln>
        </p:spPr>
      </p:pic>
      <p:sp>
        <p:nvSpPr>
          <p:cNvPr id="436" name="Tekstikehys 2"/>
          <p:cNvSpPr/>
          <p:nvPr/>
        </p:nvSpPr>
        <p:spPr>
          <a:xfrm>
            <a:off x="3957120" y="500040"/>
            <a:ext cx="48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ähkömagneetin tehoon vaikutta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utasyd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ämin kierrosten lukumäär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ähkövirran suur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kstikehys 4"/>
          <p:cNvSpPr/>
          <p:nvPr/>
        </p:nvSpPr>
        <p:spPr>
          <a:xfrm>
            <a:off x="2595600" y="2928960"/>
            <a:ext cx="42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ähkömagneetteja käytetää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stureis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vien sulkim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rofonei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uttimi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4:08:30Z</dcterms:created>
  <dc:creator>Ritva Tamminen</dc:creator>
  <dc:description/>
  <dc:language>en-US</dc:language>
  <cp:lastModifiedBy>Ritva Tamminen</cp:lastModifiedBy>
  <dcterms:modified xsi:type="dcterms:W3CDTF">2009-04-29T16:11:04Z</dcterms:modified>
  <cp:revision>13</cp:revision>
  <dc:subject/>
  <dc:title>Magneettinen vuorovaikutis</dc:title>
</cp:coreProperties>
</file>